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638A-D5B0-417F-8D7E-400D5330433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intrauterino con levonorgestrel (DIU-LNG) es un dispositivo plástico con forma de T que libera lentamente pequeñas cantidades de levonorgestrel por día.  Hay diferentes marcas de DIU disponibles en el mercado. Es eficaz durante un máximo de 5 años, pero la investigación no se ha completado para algunas marcas.  Puede insertarse en cualquier momento durante el ciclo menstrual, cuando es razonablemente seguro que la cliente no está embarazada. Se debe utilizar un método de respaldo si se inserta más adelante durante el ciclo menstrual. Puede insertarse durante el posparto inmediato (dentro de las 48 horas) o post abor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on comunes algunos cambios en los patrones de sangrado menstrual durante los primeros meses. No obstante, los períodos se vuelven más leves y menos dolorosos después de algunos meses. A veces, se utiliza también para el tratamiento de la menorra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D4CA-9678-41C4-93EF-ADF85C1E8492}"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implantes son pequeñas cilindros o cápsulas plásticas del tamaño de una cerilla que contienen progestina y que se insertan debajo de la piel en la parte superior del brazo. Existen diferentes tipos de implantes disponibles en el mercado, de uno o dos cilindros, que son eficaces durante un máximo de 3 a 5 años según el tip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ficaces inmediatamente si se insertan durante los primeros cinco días del ciclo menstrual. Pueden insertarse durante el posparto inmediat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común que se presenten algunos cambios en los patrones de sangrado mensual durante los primeros meses. Las usuarias de implantes son más propensas a tener sangrados infrecuentes o ausencia de estos en lugar de sangrados intenso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cuáles creen que son los puntos importantes sobre los MRLD. Enumérelos en el rotafolio. Lea y refuerce estos puntos importantes para recordar sobre los MRLD.</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48D9-E3D8-40B1-BBB4-9D6C4937B09A}"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suma los puntos clave y diga a los participantes que revisen la información detallada sobre los métodos ARLP en las hojas de información de cada método.</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217F-B2BB-49E8-B633-BEDE0452EDF4}"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ique que, entre los métodos Métodos Reversibles de Larga Duración, se incluyen los siguientes: DIU hormonal, DIU no hormonal e implantes. Son seguros y pueden ser usados por mujeres de todas las edades, incluidas las mujeres jóve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Como el nombre lo indica, son de acción prolongada, que varía de 3 a 5 años para los implantes y de hasta 12 años para el DIU no hormonal (TCu-380A). Se necesita poco o nada de mantenimiento por parte de la cliente y se toleran mejor. Son reversibles y se recupera la fertilidad rápidamente. Deben ser colocados por un proveedor experto. Pueden extraerse en cualquier momento y por cualquier razón a solicitud de la client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25DF-8F5B-487F-9130-03B9EBAE72F8}"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estas preguntas. Deles tiempo para responder y luego muestre las diapositivas 5 y 6. </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0E61-07EA-421E-9D86-247F5F1301E9}"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61960" y="685800"/>
            <a:ext cx="4062600" cy="3048120"/>
          </a:xfrm>
          <a:prstGeom prst="rect">
            <a:avLst/>
          </a:prstGeom>
          <a:ln w="0">
            <a:noFill/>
          </a:ln>
        </p:spPr>
      </p:sp>
      <p:sp>
        <p:nvSpPr>
          <p:cNvPr id="409" name="PlaceHolder 2"/>
          <p:cNvSpPr>
            <a:spLocks noGrp="1"/>
          </p:cNvSpPr>
          <p:nvPr>
            <p:ph type="body"/>
          </p:nvPr>
        </p:nvSpPr>
        <p:spPr>
          <a:xfrm>
            <a:off x="598320" y="3733920"/>
            <a:ext cx="5235840" cy="4868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acción principal del DIU es producir un cambio químico que daña los espermatozoides y el óvulo antes de que puedan unirse. Destaque el hecho de que es eficaz inmediatamente después de la inserción, por lo que no se necesita un método de respaldo.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Los efectos locales de la hormona y los niveles muy bajos de hormonas están presentes en el torrente sanguíneo. Principalmente, inhibe la fertilización al inhibir la motilidad de los espermatozoides, espesar el moco cervical y adelgazar el endometrio. Es eficaz inmediatamente si se inserta dentro de los primeros siete días del ciclo menstrual. Si se inserta después de dicho período, se necesita un método de respaldo.  Los niveles de hormonas vuelven a ser normales rápidamente después de la extracción</a:t>
            </a: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D2E0-0544-4322-BE9D-290DA05A8BC4}"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62120" y="696960"/>
            <a:ext cx="4038480" cy="3029040"/>
          </a:xfrm>
          <a:prstGeom prst="rect">
            <a:avLst/>
          </a:prstGeom>
          <a:ln w="0">
            <a:noFill/>
          </a:ln>
        </p:spPr>
      </p:sp>
      <p:sp>
        <p:nvSpPr>
          <p:cNvPr id="414" name="PlaceHolder 2"/>
          <p:cNvSpPr>
            <a:spLocks noGrp="1"/>
          </p:cNvSpPr>
          <p:nvPr>
            <p:ph type="body"/>
          </p:nvPr>
        </p:nvSpPr>
        <p:spPr>
          <a:xfrm>
            <a:off x="641160" y="3885840"/>
            <a:ext cx="5607000" cy="4876920"/>
          </a:xfrm>
          <a:prstGeom prst="rect">
            <a:avLst/>
          </a:prstGeom>
          <a:noFill/>
          <a:ln w="0">
            <a:noFill/>
          </a:ln>
        </p:spPr>
        <p:txBody>
          <a:bodyPr anchor="t">
            <a:noAutofit/>
          </a:bodyPr>
          <a:p>
            <a:pPr indent="0">
              <a:lnSpc>
                <a:spcPct val="95000"/>
              </a:lnSpc>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Ilustración por: Salim Khalaf/FHI</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niveles de hormonas necesarios para suprimir la ovulación se alcanzan en algunos días. Son eficaces inmediatamente si se insertan durante los primeros cinco días del ciclo menstrual o durante el período posparto inmediato o inmediatamente después de un aborto. Si se insertan después de dicho período, se necesita un método de respaldo. Los niveles de hormonas bajan rápidamente cuando se extraen y se recupera la fertilidad rápidamen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0040" y="706320"/>
            <a:ext cx="3951360" cy="2962440"/>
          </a:xfrm>
          <a:prstGeom prst="rect">
            <a:avLst/>
          </a:prstGeom>
          <a:ln w="0">
            <a:noFill/>
          </a:ln>
        </p:spPr>
      </p:sp>
      <p:sp>
        <p:nvSpPr>
          <p:cNvPr id="416" name="PlaceHolder 2"/>
          <p:cNvSpPr>
            <a:spLocks noGrp="1"/>
          </p:cNvSpPr>
          <p:nvPr>
            <p:ph type="body"/>
          </p:nvPr>
        </p:nvSpPr>
        <p:spPr>
          <a:xfrm>
            <a:off x="642600" y="3774960"/>
            <a:ext cx="5861160" cy="5292720"/>
          </a:xfrm>
          <a:prstGeom prst="rect">
            <a:avLst/>
          </a:prstGeom>
          <a:noFill/>
          <a:ln w="0">
            <a:noFill/>
          </a:ln>
        </p:spPr>
        <p:txBody>
          <a:bodyPr lIns="93960" rIns="93960" tIns="47160" bIns="471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regunte a los participantes: </a:t>
            </a:r>
            <a:r>
              <a:rPr b="0" i="1" lang="es-ES" sz="1200" spc="-1" strike="noStrike">
                <a:solidFill>
                  <a:srgbClr val="000000"/>
                </a:solidFill>
                <a:latin typeface="Times New Roman"/>
              </a:rPr>
              <a:t>¿Dónde ubicarían a los métodos ARLP en esta lista? &lt;Después  que responden, haga clic en el mouse para mostrar la respuesta&g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 lista de esta diapositiva clasifica los métodos anticonceptivos desde los más eficaces hasta los menos eficaces cuando se los usa comúnmente. En esta lista, los espermicidas son el método menos eficaz y los métodos más eficaces son la esterilización y los DIU.</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TCu- 380 A es un pequeño dispositivo plástico que posee fundas o hilos de alambre de cobre a su alrededor. Debe ser insertado por un proveedor adiestrado. Dado que es eficaz inmediatamente, no es necesario utilizar un método de respaldo y puede insertarse en cualquier momento durante el ciclo menstrual, cuando es razonablemente seguro que la cliente no está embarazada. Es eficaz durante un máximo de 12 a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insertarse inmediatamente después del parto o de un abor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 común que cambie el patrón de sangrado durante los primeros tres a seis meses.</a:t>
            </a: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3A34-53B2-4C12-84B5-937DC6978EFA}"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B7742-EEFA-4108-92CE-5F299FB612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587B3F40-935A-4A3E-9D3F-91FD0698C9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7AFA69AA-5698-40B2-A554-648AAC3181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30AA49E5-243D-4171-92F1-FF50537EB8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5B0EAF-C5C4-4D81-A2E6-EC0959331D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CC14AE89-BD9C-4499-ADED-BA81AE05E7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70C17FFA-DA79-46BF-A24D-C79ACC3890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DAD05DBC-7563-4C30-9C83-82B7CB441D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01122987-913C-4AB7-8553-2F667365D3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7DC59587-7625-4F50-A876-38AB51B272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5E057323-DFB0-41F1-B38D-6571BE0DFE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E146B321-8594-4A08-AE98-B397ABCD4F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096670A4-4BD1-4582-BCD3-5B51DD0DC3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63BCEA24-8DB7-4223-A00D-58B00725DC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156314C6-E242-4FC4-BB32-45C3553227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A388BF08-CB64-49EA-B273-01A1CDBBA0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D4BC9BA0-A1D9-4830-A705-BDDA0F2700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338B90A2-1A5C-4D99-AEDD-88D0B05FD8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61C9FB56-FC5F-45E5-A17A-88C05072FA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BC4238C6-273E-4BB6-AA96-C6176323E10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91E7AFD5-CADC-4F59-B49E-D67C3643AB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498E2898-10E9-4F30-AB76-E39B02B283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6F2B02D6-24B0-4AB0-B4A2-299B165BAB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CD36B738-D280-46C4-9760-D72E34A6A8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FDCE-0D0C-438C-8EE5-1FD0A94D36A2}" type="slidenum">
              <a:rPr b="0" lang="en-US" sz="1100" spc="-1" strike="noStrike">
                <a:solidFill>
                  <a:srgbClr val="002a6c"/>
                </a:solidFill>
                <a:latin typeface="Gill Sans MT"/>
                <a:ea typeface="Arial"/>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02EC-6431-4156-9D98-87F5744B0B22}" type="slidenum">
              <a:rPr b="0" lang="en-US" sz="1200" spc="-1" strike="noStrike">
                <a:solidFill>
                  <a:srgbClr val="5f5f5f"/>
                </a:solidFill>
                <a:latin typeface="Times New Roman"/>
                <a:ea typeface="Arial"/>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7"/>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6"/>
          <p:cNvGrpSpPr/>
          <p:nvPr/>
        </p:nvGrpSpPr>
        <p:grpSpPr>
          <a:xfrm>
            <a:off x="2141640" y="762120"/>
            <a:ext cx="4860720" cy="752400"/>
            <a:chOff x="2141640" y="762120"/>
            <a:chExt cx="4860720" cy="752400"/>
          </a:xfrm>
        </p:grpSpPr>
        <p:pic>
          <p:nvPicPr>
            <p:cNvPr id="213" name="Picture 22" descr=""/>
            <p:cNvPicPr/>
            <p:nvPr/>
          </p:nvPicPr>
          <p:blipFill>
            <a:blip r:embed="rId2"/>
            <a:srcRect l="0" t="0" r="63470" b="0"/>
            <a:stretch/>
          </p:blipFill>
          <p:spPr>
            <a:xfrm>
              <a:off x="2141640" y="762120"/>
              <a:ext cx="2663280" cy="752400"/>
            </a:xfrm>
            <a:prstGeom prst="rect">
              <a:avLst/>
            </a:prstGeom>
            <a:ln w="0">
              <a:noFill/>
            </a:ln>
          </p:spPr>
        </p:pic>
        <p:pic>
          <p:nvPicPr>
            <p:cNvPr id="214" name="Picture 8" descr=""/>
            <p:cNvPicPr/>
            <p:nvPr/>
          </p:nvPicPr>
          <p:blipFill>
            <a:blip r:embed="rId3"/>
            <a:stretch/>
          </p:blipFill>
          <p:spPr>
            <a:xfrm>
              <a:off x="5074920" y="807840"/>
              <a:ext cx="1927440" cy="70668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Group 6"/>
          <p:cNvGrpSpPr/>
          <p:nvPr/>
        </p:nvGrpSpPr>
        <p:grpSpPr>
          <a:xfrm>
            <a:off x="2141640" y="762120"/>
            <a:ext cx="4860720" cy="752400"/>
            <a:chOff x="2141640" y="762120"/>
            <a:chExt cx="4860720" cy="752400"/>
          </a:xfrm>
        </p:grpSpPr>
        <p:pic>
          <p:nvPicPr>
            <p:cNvPr id="255" name="Picture 22" descr=""/>
            <p:cNvPicPr/>
            <p:nvPr/>
          </p:nvPicPr>
          <p:blipFill>
            <a:blip r:embed="rId2"/>
            <a:srcRect l="0" t="0" r="63470" b="0"/>
            <a:stretch/>
          </p:blipFill>
          <p:spPr>
            <a:xfrm>
              <a:off x="2141640" y="762120"/>
              <a:ext cx="2663280" cy="752400"/>
            </a:xfrm>
            <a:prstGeom prst="rect">
              <a:avLst/>
            </a:prstGeom>
            <a:ln w="0">
              <a:noFill/>
            </a:ln>
          </p:spPr>
        </p:pic>
        <p:pic>
          <p:nvPicPr>
            <p:cNvPr id="256" name="Picture 8" descr=""/>
            <p:cNvPicPr/>
            <p:nvPr/>
          </p:nvPicPr>
          <p:blipFill>
            <a:blip r:embed="rId3"/>
            <a:stretch/>
          </p:blipFill>
          <p:spPr>
            <a:xfrm>
              <a:off x="5074920" y="807840"/>
              <a:ext cx="1927440" cy="706680"/>
            </a:xfrm>
            <a:prstGeom prst="rect">
              <a:avLst/>
            </a:prstGeom>
            <a:ln w="0">
              <a:noFill/>
            </a:ln>
          </p:spPr>
        </p:pic>
      </p:grpSp>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297"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298"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1980720"/>
            <a:ext cx="7772400" cy="266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a6c"/>
                </a:solidFill>
                <a:latin typeface="Gill Sans MT"/>
              </a:rPr>
              <a:t>Métodos </a:t>
            </a:r>
            <a:br>
              <a:rPr sz="4000"/>
            </a:br>
            <a:r>
              <a:rPr b="1" lang="es-ES" sz="4000" spc="-1" strike="noStrike">
                <a:solidFill>
                  <a:srgbClr val="002a6c"/>
                </a:solidFill>
                <a:latin typeface="Gill Sans MT"/>
              </a:rPr>
              <a:t>Reversibles de Larga Duración (MRLD)</a:t>
            </a:r>
            <a:endParaRPr b="0" lang="en-US" sz="4000" spc="-1" strike="noStrike">
              <a:solidFill>
                <a:srgbClr val="002a6c"/>
              </a:solidFill>
              <a:latin typeface="Gill Sans MT"/>
            </a:endParaRPr>
          </a:p>
        </p:txBody>
      </p:sp>
      <p:sp>
        <p:nvSpPr>
          <p:cNvPr id="345" name="PlaceHolder 2"/>
          <p:cNvSpPr>
            <a:spLocks noGrp="1"/>
          </p:cNvSpPr>
          <p:nvPr>
            <p:ph type="subTitle"/>
          </p:nvPr>
        </p:nvSpPr>
        <p:spPr>
          <a:xfrm>
            <a:off x="762120" y="4800240"/>
            <a:ext cx="77724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Gill Sans MT"/>
              </a:rPr>
              <a:t>Módulo 1</a:t>
            </a: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LNG </a:t>
            </a:r>
            <a:endParaRPr b="0" lang="en-US" sz="3500" spc="-1" strike="noStrike">
              <a:solidFill>
                <a:srgbClr val="002a6c"/>
              </a:solidFill>
              <a:latin typeface="Gill Sans MT"/>
            </a:endParaRPr>
          </a:p>
        </p:txBody>
      </p:sp>
      <p:sp>
        <p:nvSpPr>
          <p:cNvPr id="389" name=""/>
          <p:cNvSpPr txBox="1"/>
          <p:nvPr/>
        </p:nvSpPr>
        <p:spPr>
          <a:xfrm>
            <a:off x="457200" y="1099800"/>
            <a:ext cx="8229600" cy="514836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es?</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un dispositivo intrauterino anticonceptivo que contiene hormonas, y que se coloca en el útero para evitar el embarazo. </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eficaz durante un máximo de 5 año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Cómo se usa?</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cualquier día del ciclo menstrual si el proveedor está seguro de que la cliente no está embarazada.</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durante el  posparto inmediato o post aborto</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Requiere que un proveedor adiestrado lo inserte y extraiga adecuadamente.</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No requiere acción por la usuaria.</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se puede esperar?</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Cambios en los patrones de sangrado menstrual durante los primeros meses.</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Los períodos se vuelven más leves y menos dolorosos después de algunos mese</a:t>
            </a:r>
            <a:r>
              <a:rPr b="0" lang="es-ES" sz="1200" spc="-1" strike="noStrike">
                <a:solidFill>
                  <a:srgbClr val="5f5f5f"/>
                </a:solidFill>
                <a:latin typeface="Gill Sans MT"/>
              </a:rPr>
              <a:t>s</a:t>
            </a:r>
            <a:r>
              <a:rPr b="0" lang="es-ES" sz="2700" spc="-1" strike="noStrike">
                <a:solidFill>
                  <a:srgbClr val="5f5f5f"/>
                </a:solidFill>
                <a:latin typeface="Gill Sans MT"/>
              </a:rPr>
              <a:t>.</a:t>
            </a:r>
            <a:endParaRPr b="0" lang="en-US" sz="2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presentar amenorrea después de algunos mese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p:txBody>
      </p:sp>
      <p:sp>
        <p:nvSpPr>
          <p:cNvPr id="390" name="Rectangle 3"/>
          <p:cNvSpPr/>
          <p:nvPr/>
        </p:nvSpPr>
        <p:spPr>
          <a:xfrm>
            <a:off x="304920" y="6367320"/>
            <a:ext cx="8686800" cy="54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Gill Sans MT"/>
              </a:rPr>
              <a:t>Fuente: Lileta (levonorgestrel releasing IUS) Parsippany NJ :Actavis &amp;Medicines 360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2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los implantes </a:t>
            </a:r>
            <a:endParaRPr b="0" lang="en-US" sz="3500" spc="-1" strike="noStrike">
              <a:solidFill>
                <a:srgbClr val="002a6c"/>
              </a:solidFill>
              <a:latin typeface="Gill Sans MT"/>
            </a:endParaRPr>
          </a:p>
        </p:txBody>
      </p:sp>
      <p:sp>
        <p:nvSpPr>
          <p:cNvPr id="392" name=""/>
          <p:cNvSpPr txBox="1"/>
          <p:nvPr/>
        </p:nvSpPr>
        <p:spPr>
          <a:xfrm>
            <a:off x="469800" y="1219320"/>
            <a:ext cx="8229600" cy="5100480"/>
          </a:xfrm>
          <a:prstGeom prst="rect">
            <a:avLst/>
          </a:prstGeom>
          <a:noFill/>
          <a:ln w="0">
            <a:noFill/>
          </a:ln>
        </p:spPr>
        <p:txBody>
          <a:bodyPr anchor="t">
            <a:normAutofit fontScale="95000"/>
          </a:bodyPr>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o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equeños cilindros que se colocan debajo de la piel en la parte interna superior del braz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Son eficaces durante un máximo de 3 a 5 años (según el tipo de implante).</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Cómo se usa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cualquier día del ciclo menstrual si el proveedor está seguro de que la cliente no está embarazada.</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durante el período posparto inmediato o post abort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Debe insertarlos y extraerlos un proveedor adiestrad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No es necesario recordar efectuar ninguna acción después de la inserción.</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e puede esperar?</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Los cambios en el sangrado mensual son comunes y no representan riesgos,   incluido sangrados irregulares,  manchado,  sangrados más intensos o ausencia de sangrado.</a:t>
            </a:r>
            <a:endParaRPr b="0" lang="en-US" sz="19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importantes para recordar</a:t>
            </a:r>
            <a:endParaRPr b="0" lang="en-US" sz="3500" spc="-1" strike="noStrike">
              <a:solidFill>
                <a:srgbClr val="002a6c"/>
              </a:solidFill>
              <a:latin typeface="Gill Sans MT"/>
            </a:endParaRPr>
          </a:p>
        </p:txBody>
      </p:sp>
      <p:sp>
        <p:nvSpPr>
          <p:cNvPr id="394" name=""/>
          <p:cNvSpPr txBox="1"/>
          <p:nvPr/>
        </p:nvSpPr>
        <p:spPr>
          <a:xfrm>
            <a:off x="457200" y="1036800"/>
            <a:ext cx="8229600" cy="4525920"/>
          </a:xfrm>
          <a:prstGeom prst="rect">
            <a:avLst/>
          </a:prstGeom>
          <a:noFill/>
          <a:ln w="0">
            <a:noFill/>
          </a:ln>
        </p:spPr>
        <p:txBody>
          <a:bodyPr anchor="t">
            <a:normAutofit fontScale="81000"/>
          </a:bodyPr>
          <a:p>
            <a:pPr lvl="1" marL="370080" indent="-370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Acción prolongada altamente eficaz, pero fácilmente reversible.</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No protegen contra ITS/VIH.</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otro método si se está a la espera de una cita clínic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condones si se necesita protección contra ITS o VIH/SID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Pueden retirarse en cualquier momento y por cualquier razón a solicitud de la cliente.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dispositivo/implante debe reemplazarse si se desea continuar con la anticoncepción.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marL="377640" indent="-3776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Resumen</a:t>
            </a:r>
            <a:endParaRPr b="0" lang="en-US" sz="3500" spc="-1" strike="noStrike">
              <a:solidFill>
                <a:srgbClr val="002a6c"/>
              </a:solidFill>
              <a:latin typeface="Gill Sans MT"/>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tienen una eficacia de más del 99 por ciento para prevenir el embarazo y pueden ser usados por casi todas las mujeres, incluidas las puérperas posparto, post aborto,  adolescentes y mujeres que no han tenido hijos.</a:t>
            </a:r>
            <a:endParaRPr b="0" lang="en-US" sz="3200" spc="-1" strike="noStrike">
              <a:solidFill>
                <a:srgbClr val="5f5f5f"/>
              </a:solidFill>
              <a:latin typeface="Gill Sans MT"/>
            </a:endParaRPr>
          </a:p>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son seguros, eficaces, económicos, reversibles y requieren poco o nada de mantenimiento.</a:t>
            </a: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7"/>
          <p:cNvSpPr/>
          <p:nvPr/>
        </p:nvSpPr>
        <p:spPr>
          <a:xfrm>
            <a:off x="685800" y="144792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398" name="TextBox 8"/>
          <p:cNvSpPr/>
          <p:nvPr/>
        </p:nvSpPr>
        <p:spPr>
          <a:xfrm>
            <a:off x="685800" y="334980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399" name="TextBox 9"/>
          <p:cNvSpPr/>
          <p:nvPr/>
        </p:nvSpPr>
        <p:spPr>
          <a:xfrm>
            <a:off x="952560" y="563580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0000"/>
              </a:solidFill>
              <a:latin typeface="Calibri"/>
            </a:endParaRPr>
          </a:p>
        </p:txBody>
      </p:sp>
      <p:sp>
        <p:nvSpPr>
          <p:cNvPr id="400" name="CuadroTexto 2"/>
          <p:cNvSpPr/>
          <p:nvPr/>
        </p:nvSpPr>
        <p:spPr>
          <a:xfrm>
            <a:off x="838080" y="3425760"/>
            <a:ext cx="754380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ill Sans MT"/>
              </a:rPr>
              <a:t>Esta presentación ha sido posible por la contribución generosa del pueblo estadounidense a través de la Agencia de los Estados Unidos para el Desarrollo Internacional (USAID), según los términos del Acuerdo de Cooperación AID-OAA-A-14-00028. El contenido es responsabilidad de los autores y no refleja necesariamente la opinión de USAID o del gobierno de los Estados Unido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1" name="CuadroTexto 1"/>
          <p:cNvSpPr/>
          <p:nvPr/>
        </p:nvSpPr>
        <p:spPr>
          <a:xfrm>
            <a:off x="1535040" y="1601640"/>
            <a:ext cx="655344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2a6c"/>
                </a:solidFill>
                <a:latin typeface="Gill Sans MT"/>
              </a:rPr>
              <a:t>Para obtener más información, visi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ntroducción a los MRLD </a:t>
            </a:r>
            <a:endParaRPr b="0" lang="en-US" sz="3500" spc="-1" strike="noStrike">
              <a:solidFill>
                <a:srgbClr val="002a6c"/>
              </a:solidFill>
              <a:latin typeface="Gill Sans MT"/>
            </a:endParaRPr>
          </a:p>
        </p:txBody>
      </p:sp>
      <p:sp>
        <p:nvSpPr>
          <p:cNvPr id="347" name="PlaceHolder 2"/>
          <p:cNvSpPr>
            <a:spLocks noGrp="1"/>
          </p:cNvSpPr>
          <p:nvPr>
            <p:ph/>
          </p:nvPr>
        </p:nvSpPr>
        <p:spPr>
          <a:xfrm>
            <a:off x="914400" y="1752120"/>
            <a:ext cx="7315200" cy="3916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Objetivos:</a:t>
            </a:r>
            <a:endParaRPr b="0" lang="en-US" sz="32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finir el concepto de Métodos Reversibles de Larga Duración</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render el mecanismo de acción de cada método</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arar la eficacia de los MRLD usando el cuadro de eficacia  </a:t>
            </a:r>
            <a:endParaRPr b="0" lang="en-US" sz="28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Que son los MRLD?</a:t>
            </a:r>
            <a:endParaRPr b="0" lang="en-US" sz="3500" spc="-1" strike="noStrike">
              <a:solidFill>
                <a:srgbClr val="002a6c"/>
              </a:solidFill>
              <a:latin typeface="Gill Sans MT"/>
            </a:endParaRPr>
          </a:p>
        </p:txBody>
      </p:sp>
      <p:sp>
        <p:nvSpPr>
          <p:cNvPr id="349"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Los MRLD son la opción ideal para prevenir el embarazo en mujeres de todas las edades (incluidas las mujeres jóvenes). </a:t>
            </a:r>
            <a:endParaRPr b="0" lang="en-US" sz="2400" spc="-1" strike="noStrike">
              <a:solidFill>
                <a:srgbClr val="5f5f5f"/>
              </a:solidFill>
              <a:latin typeface="Gill Sans MT"/>
            </a:endParaRPr>
          </a:p>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stos métodos son </a:t>
            </a:r>
            <a:r>
              <a:rPr b="1" lang="es-ES" sz="2400" spc="-1" strike="noStrike">
                <a:solidFill>
                  <a:srgbClr val="5f5f5f"/>
                </a:solidFill>
                <a:latin typeface="Gill Sans MT"/>
              </a:rPr>
              <a:t>seguros, eficaces, de bajo costo</a:t>
            </a:r>
            <a:r>
              <a:rPr b="0" lang="es-ES" sz="2400" spc="-1" strike="noStrike">
                <a:solidFill>
                  <a:srgbClr val="5f5f5f"/>
                </a:solidFill>
                <a:latin typeface="Gill Sans MT"/>
              </a:rPr>
              <a:t> y </a:t>
            </a:r>
            <a:r>
              <a:rPr b="1" lang="es-ES" sz="2400" spc="-1" strike="noStrike">
                <a:solidFill>
                  <a:srgbClr val="5f5f5f"/>
                </a:solidFill>
                <a:latin typeface="Gill Sans MT"/>
              </a:rPr>
              <a:t>reversibles</a:t>
            </a:r>
            <a:r>
              <a:rPr b="0" lang="es-ES" sz="2400" spc="-1" strike="noStrike">
                <a:solidFill>
                  <a:srgbClr val="5f5f5f"/>
                </a:solidFill>
                <a:latin typeface="Gill Sans MT"/>
              </a:rPr>
              <a:t>, requieren poco o nada de mantenimiento, y tienen mejores tasas de cumplimiento que otros métodos hormonales. </a:t>
            </a:r>
            <a:endParaRPr b="0" lang="en-US" sz="2400" spc="-1" strike="noStrike">
              <a:solidFill>
                <a:srgbClr val="5f5f5f"/>
              </a:solidFill>
              <a:latin typeface="Gill Sans MT"/>
            </a:endParaRPr>
          </a:p>
        </p:txBody>
      </p:sp>
      <p:pic>
        <p:nvPicPr>
          <p:cNvPr id="350" name="Content Placeholder 3" descr=""/>
          <p:cNvPicPr/>
          <p:nvPr/>
        </p:nvPicPr>
        <p:blipFill>
          <a:blip r:embed="rId1"/>
          <a:stretch/>
        </p:blipFill>
        <p:spPr>
          <a:xfrm>
            <a:off x="6734160" y="2438280"/>
            <a:ext cx="2333520" cy="2538360"/>
          </a:xfrm>
          <a:prstGeom prst="rect">
            <a:avLst/>
          </a:prstGeom>
          <a:ln w="0">
            <a:noFill/>
          </a:ln>
        </p:spPr>
      </p:pic>
      <p:pic>
        <p:nvPicPr>
          <p:cNvPr id="351" name="Picture 5" descr=""/>
          <p:cNvPicPr/>
          <p:nvPr/>
        </p:nvPicPr>
        <p:blipFill>
          <a:blip r:embed="rId2"/>
          <a:stretch/>
        </p:blipFill>
        <p:spPr>
          <a:xfrm>
            <a:off x="4651200" y="1281240"/>
            <a:ext cx="2492640" cy="2484360"/>
          </a:xfrm>
          <a:prstGeom prst="rect">
            <a:avLst/>
          </a:prstGeom>
          <a:ln w="0">
            <a:noFill/>
          </a:ln>
        </p:spPr>
      </p:pic>
      <p:pic>
        <p:nvPicPr>
          <p:cNvPr id="352" name="Picture 2" descr="http://cdn2.mommyish.com/wp-content/uploads/2012/09/implanon.jpg"/>
          <p:cNvPicPr/>
          <p:nvPr/>
        </p:nvPicPr>
        <p:blipFill>
          <a:blip r:embed="rId3"/>
          <a:stretch/>
        </p:blipFill>
        <p:spPr>
          <a:xfrm>
            <a:off x="4946760" y="4419720"/>
            <a:ext cx="244764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Mecanismo de acción </a:t>
            </a:r>
            <a:endParaRPr b="0" lang="en-US" sz="3500" spc="-1" strike="noStrike">
              <a:solidFill>
                <a:srgbClr val="002a6c"/>
              </a:solidFill>
              <a:latin typeface="Gill Sans MT"/>
            </a:endParaRPr>
          </a:p>
        </p:txBody>
      </p:sp>
      <p:sp>
        <p:nvSpPr>
          <p:cNvPr id="35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f5f5f"/>
                </a:solidFill>
                <a:latin typeface="Gill Sans MT"/>
              </a:rPr>
              <a:t>Pregúnte a los participantes: </a:t>
            </a:r>
            <a:endParaRPr b="0" lang="en-US" sz="36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l es la diferencia en el mecanismo de acción entre el DIU hormonal y no hormonal?</a:t>
            </a:r>
            <a:endParaRPr b="0" lang="en-US" sz="32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nto demora un implante en ser eficaz después de la inserción?</a:t>
            </a: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34880" y="24588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a6c"/>
                </a:solidFill>
                <a:latin typeface="Gill Sans MT"/>
              </a:rPr>
              <a:t>DIU no hormonal (TCu-380A)</a:t>
            </a:r>
            <a:br>
              <a:rPr sz="3600"/>
            </a:br>
            <a:r>
              <a:rPr b="1" lang="es-ES" sz="3600" spc="-1" strike="noStrike">
                <a:solidFill>
                  <a:srgbClr val="002a6c"/>
                </a:solidFill>
                <a:latin typeface="Gill Sans MT"/>
              </a:rPr>
              <a:t> Mecanismo de acción</a:t>
            </a:r>
            <a:r>
              <a:rPr b="0" lang="es-ES" sz="3600" spc="-1" strike="noStrike">
                <a:solidFill>
                  <a:srgbClr val="002a6c"/>
                </a:solidFill>
                <a:latin typeface="Gill Sans MT"/>
              </a:rPr>
              <a:t> </a:t>
            </a:r>
            <a:endParaRPr b="0" lang="en-US" sz="3600" spc="-1" strike="noStrike">
              <a:solidFill>
                <a:srgbClr val="002a6c"/>
              </a:solidFill>
              <a:latin typeface="Gill Sans MT"/>
            </a:endParaRPr>
          </a:p>
        </p:txBody>
      </p:sp>
      <p:sp>
        <p:nvSpPr>
          <p:cNvPr id="356" name="PlaceHolder 2"/>
          <p:cNvSpPr>
            <a:spLocks noGrp="1"/>
          </p:cNvSpPr>
          <p:nvPr>
            <p:ph/>
          </p:nvPr>
        </p:nvSpPr>
        <p:spPr>
          <a:xfrm>
            <a:off x="446040" y="2133720"/>
            <a:ext cx="4572000" cy="36907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vita la fertilización mediante:</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terioro de la viabilidad de los espermatozoides </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Interfiere con la motilidad de los espermatozoides</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ficacia inmediata </a:t>
            </a:r>
            <a:endParaRPr b="0" lang="en-US" sz="2800" spc="-1" strike="noStrike">
              <a:solidFill>
                <a:srgbClr val="5f5f5f"/>
              </a:solidFill>
              <a:latin typeface="Gill Sans MT"/>
            </a:endParaRPr>
          </a:p>
        </p:txBody>
      </p:sp>
      <p:pic>
        <p:nvPicPr>
          <p:cNvPr id="357" name="Picture 28" descr=""/>
          <p:cNvPicPr/>
          <p:nvPr/>
        </p:nvPicPr>
        <p:blipFill>
          <a:blip r:embed="rId1"/>
          <a:stretch/>
        </p:blipFill>
        <p:spPr>
          <a:xfrm>
            <a:off x="4975200" y="1795320"/>
            <a:ext cx="3657600" cy="3583080"/>
          </a:xfrm>
          <a:prstGeom prst="rect">
            <a:avLst/>
          </a:prstGeom>
          <a:ln w="0">
            <a:noFill/>
          </a:ln>
        </p:spPr>
      </p:pic>
      <p:sp>
        <p:nvSpPr>
          <p:cNvPr id="358" name="Rectangle 29"/>
          <p:cNvSpPr/>
          <p:nvPr/>
        </p:nvSpPr>
        <p:spPr>
          <a:xfrm>
            <a:off x="619200" y="6280200"/>
            <a:ext cx="5346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Gill Sans MT"/>
              </a:rPr>
              <a:t>Fuente: Ortiz, 1996</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DIU hormonal (DIU-LNG) </a:t>
            </a:r>
            <a:br>
              <a:rPr sz="3200"/>
            </a:br>
            <a:r>
              <a:rPr b="0" lang="es-ES" sz="3200" spc="-1" strike="noStrike">
                <a:solidFill>
                  <a:srgbClr val="002a6c"/>
                </a:solidFill>
                <a:latin typeface="Gill Sans MT"/>
              </a:rPr>
              <a:t> </a:t>
            </a:r>
            <a:r>
              <a:rPr b="1" lang="es-ES" sz="3200" spc="-1" strike="noStrike">
                <a:solidFill>
                  <a:srgbClr val="002a6c"/>
                </a:solidFill>
                <a:latin typeface="Gill Sans MT"/>
              </a:rPr>
              <a:t>Mecanismo de acción</a:t>
            </a:r>
            <a:r>
              <a:rPr b="0" lang="es-E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360" name="TextBox 5"/>
          <p:cNvSpPr/>
          <p:nvPr/>
        </p:nvSpPr>
        <p:spPr>
          <a:xfrm>
            <a:off x="2112840" y="6443640"/>
            <a:ext cx="7010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Gill Sans MT"/>
              </a:rPr>
              <a:t>Fuente: Bayer AG:LNG IUS Corporate Data Sheet Jan 2014</a:t>
            </a:r>
            <a:endParaRPr b="0" lang="en-US" sz="1600" spc="-1" strike="noStrike">
              <a:solidFill>
                <a:srgbClr val="000000"/>
              </a:solidFill>
              <a:latin typeface="Calibri"/>
            </a:endParaRPr>
          </a:p>
        </p:txBody>
      </p:sp>
      <p:sp>
        <p:nvSpPr>
          <p:cNvPr id="361" name="Rectangle 2"/>
          <p:cNvSpPr/>
          <p:nvPr/>
        </p:nvSpPr>
        <p:spPr>
          <a:xfrm>
            <a:off x="304920" y="4114800"/>
            <a:ext cx="2895480" cy="1371600"/>
          </a:xfrm>
          <a:prstGeom prst="rect">
            <a:avLst/>
          </a:prstGeom>
          <a:noFill/>
          <a:ln w="25560">
            <a:solidFill>
              <a:srgbClr val="5f5f5f"/>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a liberación localizada de hormonas genera una concentración muy alta de LNG en el endometrio.</a:t>
            </a:r>
            <a:endParaRPr b="0" lang="en-US" sz="1800" spc="-1" strike="noStrike">
              <a:solidFill>
                <a:srgbClr val="000000"/>
              </a:solidFill>
              <a:latin typeface="Calibri"/>
            </a:endParaRPr>
          </a:p>
        </p:txBody>
      </p:sp>
      <p:sp>
        <p:nvSpPr>
          <p:cNvPr id="362" name="CuadroTexto 1"/>
          <p:cNvSpPr/>
          <p:nvPr/>
        </p:nvSpPr>
        <p:spPr>
          <a:xfrm>
            <a:off x="1346040" y="5715000"/>
            <a:ext cx="46080" cy="4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3" name="Content Placeholder 3" descr=""/>
          <p:cNvPicPr/>
          <p:nvPr/>
        </p:nvPicPr>
        <p:blipFill>
          <a:blip r:embed="rId1"/>
          <a:stretch/>
        </p:blipFill>
        <p:spPr>
          <a:xfrm>
            <a:off x="1604880" y="1417680"/>
            <a:ext cx="5934240" cy="4314960"/>
          </a:xfrm>
          <a:prstGeom prst="rect">
            <a:avLst/>
          </a:prstGeom>
          <a:ln w="0">
            <a:noFill/>
          </a:ln>
        </p:spPr>
      </p:pic>
      <p:sp>
        <p:nvSpPr>
          <p:cNvPr id="364" name="TextBox 4"/>
          <p:cNvSpPr/>
          <p:nvPr/>
        </p:nvSpPr>
        <p:spPr>
          <a:xfrm>
            <a:off x="5867280" y="4616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Espesa el moco cervical</a:t>
            </a:r>
            <a:endParaRPr b="0" lang="en-US" sz="1800" spc="-1" strike="noStrike">
              <a:solidFill>
                <a:srgbClr val="000000"/>
              </a:solidFill>
              <a:latin typeface="Calibri"/>
            </a:endParaRPr>
          </a:p>
        </p:txBody>
      </p:sp>
      <p:sp>
        <p:nvSpPr>
          <p:cNvPr id="365" name="TextBox 9"/>
          <p:cNvSpPr/>
          <p:nvPr/>
        </p:nvSpPr>
        <p:spPr>
          <a:xfrm>
            <a:off x="457200" y="3112920"/>
            <a:ext cx="237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2. Inhibe la motilidad de los espermatozoides</a:t>
            </a:r>
            <a:endParaRPr b="0" lang="en-US" sz="1800" spc="-1" strike="noStrike">
              <a:solidFill>
                <a:srgbClr val="000000"/>
              </a:solidFill>
              <a:latin typeface="Calibri"/>
            </a:endParaRPr>
          </a:p>
        </p:txBody>
      </p:sp>
      <p:sp>
        <p:nvSpPr>
          <p:cNvPr id="366" name="Straight Connector 6"/>
          <p:cNvSpPr/>
          <p:nvPr/>
        </p:nvSpPr>
        <p:spPr>
          <a:xfrm flipH="1" flipV="1">
            <a:off x="4500720" y="4430520"/>
            <a:ext cx="136656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Straight Connector 11"/>
          <p:cNvSpPr/>
          <p:nvPr/>
        </p:nvSpPr>
        <p:spPr>
          <a:xfrm>
            <a:off x="2895480" y="3436920"/>
            <a:ext cx="16290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68" name="TextBox 19"/>
          <p:cNvSpPr/>
          <p:nvPr/>
        </p:nvSpPr>
        <p:spPr>
          <a:xfrm>
            <a:off x="6051600" y="302112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delgaza el endometrio</a:t>
            </a:r>
            <a:endParaRPr b="0" lang="en-US" sz="1800" spc="-1" strike="noStrike">
              <a:solidFill>
                <a:srgbClr val="000000"/>
              </a:solidFill>
              <a:latin typeface="Calibri"/>
            </a:endParaRPr>
          </a:p>
        </p:txBody>
      </p:sp>
      <p:sp>
        <p:nvSpPr>
          <p:cNvPr id="369" name="Straight Connector 16"/>
          <p:cNvSpPr/>
          <p:nvPr/>
        </p:nvSpPr>
        <p:spPr>
          <a:xfrm flipH="1" flipV="1">
            <a:off x="4800240" y="3157200"/>
            <a:ext cx="12510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WomanInjectableMEC"/>
          <p:cNvPicPr/>
          <p:nvPr/>
        </p:nvPicPr>
        <p:blipFill>
          <a:blip r:embed="rId1"/>
          <a:stretch/>
        </p:blipFill>
        <p:spPr>
          <a:xfrm>
            <a:off x="5372280" y="1523880"/>
            <a:ext cx="2153880" cy="4281480"/>
          </a:xfrm>
          <a:prstGeom prst="rect">
            <a:avLst/>
          </a:prstGeom>
          <a:ln w="0">
            <a:noFill/>
          </a:ln>
        </p:spPr>
      </p:pic>
      <p:sp>
        <p:nvSpPr>
          <p:cNvPr id="371" name="PlaceHolder 1"/>
          <p:cNvSpPr>
            <a:spLocks noGrp="1"/>
          </p:cNvSpPr>
          <p:nvPr>
            <p:ph type="title"/>
          </p:nvPr>
        </p:nvSpPr>
        <p:spPr>
          <a:xfrm>
            <a:off x="457200" y="320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mplantes: Mecanismo de acción</a:t>
            </a:r>
            <a:endParaRPr b="0" lang="en-US" sz="3500" spc="-1" strike="noStrike">
              <a:solidFill>
                <a:srgbClr val="002a6c"/>
              </a:solidFill>
              <a:latin typeface="Gill Sans MT"/>
            </a:endParaRPr>
          </a:p>
        </p:txBody>
      </p:sp>
      <p:sp>
        <p:nvSpPr>
          <p:cNvPr id="372" name="Text Box 4"/>
          <p:cNvSpPr/>
          <p:nvPr/>
        </p:nvSpPr>
        <p:spPr>
          <a:xfrm>
            <a:off x="2498760" y="3776760"/>
            <a:ext cx="2714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spesan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moco cervical para bloquear los espermatozoides </a:t>
            </a:r>
            <a:endParaRPr b="0" lang="en-US" sz="2800" spc="-1" strike="noStrike">
              <a:solidFill>
                <a:srgbClr val="000000"/>
              </a:solidFill>
              <a:latin typeface="Calibri"/>
            </a:endParaRPr>
          </a:p>
        </p:txBody>
      </p:sp>
      <p:sp>
        <p:nvSpPr>
          <p:cNvPr id="373" name="Text Box 5"/>
          <p:cNvSpPr/>
          <p:nvPr/>
        </p:nvSpPr>
        <p:spPr>
          <a:xfrm>
            <a:off x="173160" y="1411200"/>
            <a:ext cx="479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a6c"/>
                </a:solidFill>
                <a:latin typeface="Gill Sans MT"/>
              </a:rPr>
              <a:t>Los implantes actúan de dos maneras</a:t>
            </a:r>
            <a:endParaRPr b="0" lang="en-US" sz="2800" spc="-1" strike="noStrike">
              <a:solidFill>
                <a:srgbClr val="000000"/>
              </a:solidFill>
              <a:latin typeface="Calibri"/>
            </a:endParaRPr>
          </a:p>
        </p:txBody>
      </p:sp>
      <p:sp>
        <p:nvSpPr>
          <p:cNvPr id="374" name="Line 7"/>
          <p:cNvSpPr/>
          <p:nvPr/>
        </p:nvSpPr>
        <p:spPr>
          <a:xfrm>
            <a:off x="4111560" y="2678040"/>
            <a:ext cx="2060640" cy="190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Line 8"/>
          <p:cNvSpPr/>
          <p:nvPr/>
        </p:nvSpPr>
        <p:spPr>
          <a:xfrm flipV="1">
            <a:off x="4114800" y="1995120"/>
            <a:ext cx="22860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9"/>
          <p:cNvSpPr/>
          <p:nvPr/>
        </p:nvSpPr>
        <p:spPr>
          <a:xfrm>
            <a:off x="0" y="5865840"/>
            <a:ext cx="9144000" cy="1254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a6c"/>
                </a:solidFill>
                <a:latin typeface="Gill Sans MT"/>
              </a:rPr>
              <a:t>Los implantes son inmediatamente eficaces si se insertan durante los primeros 5 días del ciclo menstrual y después de 7 días si se implantan en otro momento</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7" name="Text Box 5"/>
          <p:cNvSpPr/>
          <p:nvPr/>
        </p:nvSpPr>
        <p:spPr>
          <a:xfrm>
            <a:off x="826920" y="2362320"/>
            <a:ext cx="3483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uprimen hormona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responsabl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 la ovul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Group 16" descr=""/>
          <p:cNvPicPr/>
          <p:nvPr/>
        </p:nvPicPr>
        <p:blipFill>
          <a:blip r:embed="rId1"/>
          <a:stretch/>
        </p:blipFill>
        <p:spPr>
          <a:xfrm>
            <a:off x="-55440" y="2109960"/>
            <a:ext cx="2433600" cy="4028760"/>
          </a:xfrm>
          <a:prstGeom prst="rect">
            <a:avLst/>
          </a:prstGeom>
          <a:ln w="0">
            <a:noFill/>
          </a:ln>
        </p:spPr>
      </p:pic>
      <p:sp>
        <p:nvSpPr>
          <p:cNvPr id="379" name="PlaceHolder 1"/>
          <p:cNvSpPr>
            <a:spLocks noGrp="1"/>
          </p:cNvSpPr>
          <p:nvPr>
            <p:ph type="title"/>
          </p:nvPr>
        </p:nvSpPr>
        <p:spPr>
          <a:xfrm>
            <a:off x="441360" y="78840"/>
            <a:ext cx="82296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002a6c"/>
                </a:solidFill>
                <a:latin typeface="Gill Sans MT"/>
              </a:rPr>
              <a:t>Eficacia de los MRLD</a:t>
            </a:r>
            <a:endParaRPr b="0" lang="en-US" sz="3600" spc="-1" strike="noStrike">
              <a:solidFill>
                <a:srgbClr val="002a6c"/>
              </a:solidFill>
              <a:latin typeface="Gill Sans MT"/>
            </a:endParaRPr>
          </a:p>
        </p:txBody>
      </p:sp>
      <p:sp>
        <p:nvSpPr>
          <p:cNvPr id="380" name="Text Box 15"/>
          <p:cNvSpPr/>
          <p:nvPr/>
        </p:nvSpPr>
        <p:spPr>
          <a:xfrm>
            <a:off x="479520" y="1465200"/>
            <a:ext cx="8153280" cy="78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n esta progresión de eficacia, ¿dónde ubicaría a los MRLD?</a:t>
            </a:r>
            <a:endParaRPr b="0" lang="en-US" sz="2400" spc="-1" strike="noStrike">
              <a:solidFill>
                <a:srgbClr val="000000"/>
              </a:solidFill>
              <a:latin typeface="Calibri"/>
            </a:endParaRPr>
          </a:p>
        </p:txBody>
      </p:sp>
      <p:graphicFrame>
        <p:nvGraphicFramePr>
          <p:cNvPr id="381" name=""/>
          <p:cNvGraphicFramePr/>
          <p:nvPr/>
        </p:nvGraphicFramePr>
        <p:xfrm>
          <a:off x="2133720" y="2133720"/>
          <a:ext cx="5263920" cy="4043160"/>
        </p:xfrm>
        <a:graphic>
          <a:graphicData uri="http://schemas.openxmlformats.org/drawingml/2006/table">
            <a:tbl>
              <a:tblPr/>
              <a:tblGrid>
                <a:gridCol w="5263920"/>
              </a:tblGrid>
              <a:tr h="113004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masculin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femenina</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w="5760">
                      <a:solidFill>
                        <a:srgbClr val="002a6c"/>
                      </a:solidFill>
                    </a:lnT>
                    <a:lnB>
                      <a:noFill/>
                    </a:lnB>
                    <a:solidFill>
                      <a:srgbClr val="9dbfe5"/>
                    </a:solidFill>
                  </a:tcPr>
                </a:tc>
              </a:tr>
              <a:tr h="89388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Inyectables de progestina sol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Anticonceptivos orales combinad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c4d9ef"/>
                    </a:solidFill>
                  </a:tcPr>
                </a:tc>
              </a:tr>
              <a:tr h="1482840">
                <a:tc>
                  <a:txBody>
                    <a:bodyPr anchor="ctr">
                      <a:noAutofit/>
                    </a:bodyPr>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Condones masculin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Método de los días fij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Condones femenin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d8e5f5"/>
                    </a:solidFill>
                  </a:tcPr>
                </a:tc>
              </a:tr>
              <a:tr h="536400">
                <a:tc>
                  <a:txBody>
                    <a:bodyPr anchor="ctr">
                      <a:noAutofit/>
                    </a:bodyPr>
                    <a:p>
                      <a:pPr>
                        <a:lnSpc>
                          <a:spcPct val="100000"/>
                        </a:lnSpc>
                        <a:spcBef>
                          <a:spcPts val="400"/>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Espermicida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w="5760">
                      <a:solidFill>
                        <a:srgbClr val="002a6c"/>
                      </a:solidFill>
                    </a:lnB>
                    <a:solidFill>
                      <a:srgbClr val="ebf2fa"/>
                    </a:solidFill>
                  </a:tcPr>
                </a:tc>
              </a:tr>
            </a:tbl>
          </a:graphicData>
        </a:graphic>
      </p:graphicFrame>
      <p:grpSp>
        <p:nvGrpSpPr>
          <p:cNvPr id="382" name="Group 26"/>
          <p:cNvGrpSpPr/>
          <p:nvPr/>
        </p:nvGrpSpPr>
        <p:grpSpPr>
          <a:xfrm>
            <a:off x="7159320" y="2505240"/>
            <a:ext cx="1776600" cy="1313640"/>
            <a:chOff x="7159320" y="2505240"/>
            <a:chExt cx="1776600" cy="1313640"/>
          </a:xfrm>
        </p:grpSpPr>
        <p:sp>
          <p:nvSpPr>
            <p:cNvPr id="383" name="TextBox 3"/>
            <p:cNvSpPr/>
            <p:nvPr/>
          </p:nvSpPr>
          <p:spPr>
            <a:xfrm>
              <a:off x="7544160" y="2505240"/>
              <a:ext cx="1391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L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Implantes</a:t>
              </a:r>
              <a:endParaRPr b="0" lang="en-US" sz="2000" spc="-1" strike="noStrike">
                <a:solidFill>
                  <a:srgbClr val="000000"/>
                </a:solidFill>
                <a:latin typeface="Calibri"/>
              </a:endParaRPr>
            </a:p>
          </p:txBody>
        </p:sp>
        <p:sp>
          <p:nvSpPr>
            <p:cNvPr id="384" name="Line 24"/>
            <p:cNvSpPr/>
            <p:nvPr/>
          </p:nvSpPr>
          <p:spPr>
            <a:xfrm flipH="1">
              <a:off x="7159320" y="2917440"/>
              <a:ext cx="119160" cy="0"/>
            </a:xfrm>
            <a:prstGeom prst="line">
              <a:avLst/>
            </a:prstGeom>
            <a:ln w="41400">
              <a:solidFill>
                <a:srgbClr val="b42b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Text Box 19"/>
          <p:cNvSpPr/>
          <p:nvPr/>
        </p:nvSpPr>
        <p:spPr>
          <a:xfrm>
            <a:off x="457200" y="5410080"/>
            <a:ext cx="1432080" cy="674280"/>
          </a:xfrm>
          <a:prstGeom prst="ellipse">
            <a:avLst/>
          </a:prstGeom>
          <a:solidFill>
            <a:srgbClr val="ebf2fa"/>
          </a:solidFill>
          <a:ln w="9360">
            <a:solidFill>
              <a:srgbClr val="002a6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a6c"/>
                </a:solidFill>
                <a:latin typeface="Gill Sans MT"/>
                <a:ea typeface="MS PGothic"/>
              </a:rPr>
              <a:t>Menos</a:t>
            </a:r>
            <a:br>
              <a:rPr sz="1400"/>
            </a:br>
            <a:r>
              <a:rPr b="1" lang="es-ES" sz="1400" spc="-1" strike="noStrike">
                <a:solidFill>
                  <a:srgbClr val="002a6c"/>
                </a:solidFill>
                <a:latin typeface="Gill Sans MT"/>
                <a:ea typeface="MS PGothic"/>
              </a:rPr>
              <a:t>eficaces</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a:t>
            </a:r>
            <a:endParaRPr b="0" lang="en-US" sz="3500" spc="-1" strike="noStrike">
              <a:solidFill>
                <a:srgbClr val="002a6c"/>
              </a:solidFill>
              <a:latin typeface="Gill Sans MT"/>
            </a:endParaRPr>
          </a:p>
        </p:txBody>
      </p:sp>
      <p:sp>
        <p:nvSpPr>
          <p:cNvPr id="387" name=""/>
          <p:cNvSpPr txBox="1"/>
          <p:nvPr/>
        </p:nvSpPr>
        <p:spPr>
          <a:xfrm>
            <a:off x="457200" y="1417680"/>
            <a:ext cx="8229600" cy="5059440"/>
          </a:xfrm>
          <a:prstGeom prst="rect">
            <a:avLst/>
          </a:prstGeom>
          <a:noFill/>
          <a:ln w="0">
            <a:noFill/>
          </a:ln>
        </p:spPr>
        <p:txBody>
          <a:bodyPr anchor="t">
            <a:normAutofit fontScale="98000"/>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es?</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un dispositivo plástico pequeño que se coloca en el útero a través de la vagina y el cuello uterino.</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eficaz durante un máximo de 12 años.</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cualquier día del ciclo menstrual si el proveedor está seguro de que la cliente no está embarazada.</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durante el posparto inmediato o post aborto</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Cómo se usa?</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Requiere que un proveedor adiestrado lo inserte y extraiga adecuadamente.</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No requiere acción por la usuaria.</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se puede esperar?</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Sangrado leve o manchado y dolor abdominal después de la inserción</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9T17:12:16Z</dcterms:created>
  <dc:creator>lelliott;Maternal and Child Survival Program</dc:creator>
  <dc:description/>
  <cp:keywords>MCSP USAID MRLD</cp:keywords>
  <dc:language>en-US</dc:language>
  <cp:lastModifiedBy>Katherine Bisulca</cp:lastModifiedBy>
  <dcterms:modified xsi:type="dcterms:W3CDTF">2018-05-22T18:13:11Z</dcterms:modified>
  <cp:revision>116</cp:revision>
  <dc:subject/>
  <dc:title>Métodos Reversibles de Larga Duración (MRLD), Módulo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64015B4606503448E0E41DD172FBAD0</vt:lpwstr>
  </property>
  <property fmtid="{D5CDD505-2E9C-101B-9397-08002B2CF9AE}" pid="3" name="PPSMA_Description">
    <vt:lpwstr/>
  </property>
  <property fmtid="{D5CDD505-2E9C-101B-9397-08002B2CF9AE}" pid="4" name="_dlc_DocId">
    <vt:lpwstr>WK2YMFF4N567-207-22</vt:lpwstr>
  </property>
  <property fmtid="{D5CDD505-2E9C-101B-9397-08002B2CF9AE}" pid="5" name="_dlc_DocIdItemGuid">
    <vt:lpwstr>9ccc6841-61de-4de9-9802-a9469ce21bcc</vt:lpwstr>
  </property>
  <property fmtid="{D5CDD505-2E9C-101B-9397-08002B2CF9AE}" pid="6" name="_dlc_DocIdUrl">
    <vt:lpwstr>https://my.mcsprogram.org/Communications/_layouts/DocIdRedir.aspx?ID=WK2YMFF4N567-207-22, WK2YMFF4N567-207-22</vt:lpwstr>
  </property>
</Properties>
</file>